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BB93E-BE76-442A-9D53-A411DB1D7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151A4-AFFD-4B41-92A0-A981C604A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96B05-4193-4403-9DE8-CAFA88F33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AC642-9F48-4F17-9CE5-5EF108414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03D27-C900-49B2-88CB-B1B589B5A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8529C-5B14-4AA3-8EC2-6A030AB8B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F5FA6-4FCF-47A3-880D-8DDB0087C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E3317-0864-4B26-8A44-603D61C8B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AB095-6535-406B-B982-3524FBF1B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4BC1-B64D-4D5C-944A-44E15FED7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628ED-7CFB-4037-A84B-E6C70B698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FAA49-2900-4C94-BEB9-C7E6FC262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74F1-8E6D-4F2C-9461-3201D29E5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reeplaymusic.co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eb.mit.edu/invent/iow/mars.html"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858000" y="4800600"/>
            <a:ext cx="2286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7/2010 8:12 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txBox="1"/>
          <p:nvPr/>
        </p:nvSpPr>
        <p:spPr>
          <a:xfrm>
            <a:off x="511200" y="773280"/>
            <a:ext cx="7442280" cy="388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amp;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3" name=""/>
          <p:cNvSpPr/>
          <p:nvPr/>
        </p:nvSpPr>
        <p:spPr>
          <a:xfrm>
            <a:off x="1743120" y="5181480"/>
            <a:ext cx="4952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 Free Play Music, </a:t>
            </a:r>
            <a:r>
              <a:rPr b="0" lang="en-US" sz="1800" spc="-1" strike="noStrike" u="sng">
                <a:solidFill>
                  <a:srgbClr val="000000"/>
                </a:solidFill>
                <a:uFillTx/>
                <a:latin typeface="Arial"/>
              </a:rPr>
              <a:t>Race to Actio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7th ,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ww.freeplaymusic.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3"/>
          <a:stretch/>
        </p:blipFill>
        <p:spPr>
          <a:xfrm>
            <a:off x="6477120" y="4572000"/>
            <a:ext cx="304560" cy="30492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43640" y="3245040"/>
            <a:ext cx="21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endParaRPr b="0" lang="en-US" sz="900" spc="-1" strike="noStrike">
              <a:solidFill>
                <a:srgbClr val="000000"/>
              </a:solidFill>
              <a:latin typeface="Arial"/>
            </a:endParaRPr>
          </a:p>
        </p:txBody>
      </p:sp>
      <p:pic>
        <p:nvPicPr>
          <p:cNvPr id="46" name="" descr="Mars"/>
          <p:cNvPicPr/>
          <p:nvPr/>
        </p:nvPicPr>
        <p:blipFill>
          <a:blip r:embed="rId1"/>
          <a:stretch/>
        </p:blipFill>
        <p:spPr>
          <a:xfrm>
            <a:off x="457200" y="2286000"/>
            <a:ext cx="2989440" cy="3886200"/>
          </a:xfrm>
          <a:prstGeom prst="rect">
            <a:avLst/>
          </a:prstGeom>
          <a:ln w="0">
            <a:noFill/>
          </a:ln>
        </p:spPr>
      </p:pic>
      <p:pic>
        <p:nvPicPr>
          <p:cNvPr id="47" name="" descr="Mars"/>
          <p:cNvPicPr/>
          <p:nvPr/>
        </p:nvPicPr>
        <p:blipFill>
          <a:blip r:embed="rId2"/>
          <a:stretch/>
        </p:blipFill>
        <p:spPr>
          <a:xfrm>
            <a:off x="4876920" y="1066680"/>
            <a:ext cx="3429000" cy="1057320"/>
          </a:xfrm>
          <a:prstGeom prst="rect">
            <a:avLst/>
          </a:prstGeom>
          <a:ln w="0">
            <a:noFill/>
          </a:ln>
        </p:spPr>
      </p:pic>
      <p:sp>
        <p:nvSpPr>
          <p:cNvPr id="48" name=""/>
          <p:cNvSpPr/>
          <p:nvPr/>
        </p:nvSpPr>
        <p:spPr>
          <a:xfrm>
            <a:off x="4038480" y="2743200"/>
            <a:ext cx="5248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rest Mars invented M&amp;M’s. Here is how 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ed that the chocolate would melt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hand but in your mouth with the choco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dy coating.</a:t>
            </a:r>
            <a:endParaRPr b="0" lang="en-US" sz="1800" spc="-1" strike="noStrike">
              <a:solidFill>
                <a:srgbClr val="000000"/>
              </a:solidFill>
              <a:latin typeface="Arial"/>
            </a:endParaRPr>
          </a:p>
        </p:txBody>
      </p:sp>
      <p:sp>
        <p:nvSpPr>
          <p:cNvPr id="49" name=""/>
          <p:cNvSpPr/>
          <p:nvPr/>
        </p:nvSpPr>
        <p:spPr>
          <a:xfrm>
            <a:off x="4560840" y="4836960"/>
            <a:ext cx="4593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melsonmit program,</a:t>
            </a:r>
            <a:r>
              <a:rPr b="0" lang="en-US" sz="1800" spc="-1" strike="noStrike" u="sng">
                <a:solidFill>
                  <a:srgbClr val="000000"/>
                </a:solidFill>
                <a:uFillTx/>
                <a:latin typeface="Arial"/>
              </a:rPr>
              <a:t>M&amp;M’s, </a:t>
            </a:r>
            <a:r>
              <a:rPr b="0" lang="en-US" sz="1800" spc="-1" strike="noStrike">
                <a:solidFill>
                  <a:srgbClr val="000000"/>
                </a:solidFill>
                <a:latin typeface="Arial"/>
              </a:rPr>
              <a:t>May 10,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3"/>
              </a:rPr>
              <a:t>http://web.mit.edu/invent/iow/mar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002f"/>
            </a:gs>
            <a:gs pos="100000">
              <a:srgbClr val="ff0066"/>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ffff00"/>
          </a:soli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Bradley Hand ITC"/>
              </a:rPr>
              <a:t>Invention: M</a:t>
            </a:r>
            <a:r>
              <a:rPr b="0" lang="en-US" sz="7200" spc="-1" strike="noStrike">
                <a:solidFill>
                  <a:srgbClr val="cc00ff"/>
                </a:solidFill>
                <a:latin typeface="Arial Unicode MS"/>
              </a:rPr>
              <a:t>&amp;</a:t>
            </a:r>
            <a:r>
              <a:rPr b="1" lang="en-US" sz="7200" spc="-1" strike="noStrike">
                <a:solidFill>
                  <a:srgbClr val="cc00ff"/>
                </a:solidFill>
                <a:latin typeface="Bradley Hand ITC"/>
              </a:rPr>
              <a:t>M’s</a:t>
            </a:r>
            <a:endParaRPr b="0" lang="en-US" sz="7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9933ff"/>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ere in his travels, Mars had come across a candy that was essentially tiny chocolate pellets surrounded by a sugar shel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ign was patented on March 3, 194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year, M&amp;M, Ltd. began production in Newark, N.J., and the first M&amp;Ms went on sa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dy, originally sold in paper tubes, came in brown, yellow, orange, red, green and violet, later replaced by tan. (My favorite color in M&amp;M’s in yello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year the company also began television advertising using cartoon characters and launched its famous M&amp;M slogan, "The milk chocolate melts in your mouth, not in your h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1958, demand for M&amp;M's had surpassed 1 million pounds per wee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81, M&amp;M's even went to space!!!!!! Can you believe that?!?!?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Ms were also the official candy at the 1984 Olympics in Los Angel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176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Inventor: Forrest Mars</a:t>
            </a:r>
            <a:endParaRPr b="0" lang="en-US" sz="4400" spc="-1" strike="noStrike">
              <a:solidFill>
                <a:srgbClr val="000000"/>
              </a:solidFill>
              <a:latin typeface="Arial"/>
            </a:endParaRPr>
          </a:p>
        </p:txBody>
      </p:sp>
      <p:sp>
        <p:nvSpPr>
          <p:cNvPr id="53" name="PlaceHolder 2"/>
          <p:cNvSpPr>
            <a:spLocks noGrp="1"/>
          </p:cNvSpPr>
          <p:nvPr>
            <p:ph/>
          </p:nvPr>
        </p:nvSpPr>
        <p:spPr>
          <a:xfrm>
            <a:off x="0" y="1447920"/>
            <a:ext cx="9144000" cy="5410080"/>
          </a:xfrm>
          <a:prstGeom prst="rect">
            <a:avLst/>
          </a:prstGeom>
          <a:solidFill>
            <a:srgbClr val="ff0066"/>
          </a:solidFill>
          <a:ln w="0">
            <a:noFill/>
          </a:ln>
        </p:spPr>
        <p:txBody>
          <a:bodyPr lIns="90000" rIns="90000" tIns="46800" bIns="46800" anchor="t">
            <a:normAutofit/>
          </a:bodyPr>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rrest Mars was born on March 21,1904 in Minnesota and raised in Canada after his parents’ divorce.</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rrest entered the university of California at Berkeley and later transformed to Yale University where he completed a degree in industrial engineering in 1928.</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n Forrest joined his fathers company and started working at Mars, Inc.</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e retired from Mars, Inc. in 1993 and started a new candy company, Ethel M. Chocolates, which soon had sales in the hundreds of millions. </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hel M., named for Mars’ mother, joined M&amp;M® Inc. and Dove as M&amp;M Mars in 2003. </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day brands include Dove ice cream bars, Twix,, and pet food brands Kal Kan and Pedigree.</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rrest died on July 1, 1999 at the age of 95 sadly.</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 the time of Forrest’s death, his estimated net worth of $4 billion, according to </a:t>
            </a:r>
            <a:r>
              <a:rPr b="1" i="1" lang="en-US" sz="1800" spc="-1" strike="noStrike">
                <a:solidFill>
                  <a:srgbClr val="ffff00"/>
                </a:solidFill>
                <a:latin typeface="Arial"/>
              </a:rPr>
              <a:t>Forbes magazine</a:t>
            </a:r>
            <a:r>
              <a:rPr b="1" lang="en-US" sz="1800" spc="-1" strike="noStrike">
                <a:solidFill>
                  <a:srgbClr val="ffff00"/>
                </a:solidFill>
                <a:latin typeface="Arial"/>
              </a:rPr>
              <a:t>, made him one of the richest people in the U.S.</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His sons, Forrest Mars, Jr. and John Mars are now executives with the candy company and also said to be of high net worth, along with his daughter, Jacqueline Mars Vogel.</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3:18:01Z</dcterms:created>
  <dc:creator>install</dc:creator>
  <dc:description/>
  <dc:language>en-US</dc:language>
  <cp:lastModifiedBy>install</cp:lastModifiedBy>
  <dcterms:modified xsi:type="dcterms:W3CDTF">2010-05-12T13:12:44Z</dcterms:modified>
  <cp:revision>10</cp:revision>
  <dc:subject/>
  <dc:title>Slide 1</dc:title>
</cp:coreProperties>
</file>